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92000" y="858600"/>
            <a:ext cx="5283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简易方程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TextBox 3"/>
          <p:cNvSpPr/>
          <p:nvPr/>
        </p:nvSpPr>
        <p:spPr>
          <a:xfrm>
            <a:off x="1403280" y="2060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解方程 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" descr="\\192.168.1.3\临时中转站1_以本人姓名建目录\开发中心-多媒体部\02美术部\晨会文件\04宁煌\人教数学教参\05.png"/>
          <p:cNvPicPr/>
          <p:nvPr/>
        </p:nvPicPr>
        <p:blipFill>
          <a:blip r:embed="rId2"/>
          <a:stretch/>
        </p:blipFill>
        <p:spPr>
          <a:xfrm>
            <a:off x="826920" y="9810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41" name="矩形 448517"/>
          <p:cNvSpPr/>
          <p:nvPr/>
        </p:nvSpPr>
        <p:spPr>
          <a:xfrm>
            <a:off x="520920" y="47196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48518"/>
          <p:cNvSpPr/>
          <p:nvPr/>
        </p:nvSpPr>
        <p:spPr>
          <a:xfrm>
            <a:off x="3687840" y="4797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引入情境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三）理解概念，反思验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719280" y="5734080"/>
            <a:ext cx="842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是不是正确的答案呢？请你检验一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755640" y="3070080"/>
            <a:ext cx="3816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宋体"/>
              </a:rPr>
              <a:t>3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宋体"/>
              </a:rPr>
              <a:t>9</a:t>
            </a:r>
            <a:br>
              <a:rPr sz="3000"/>
            </a:br>
            <a:r>
              <a:rPr b="0" lang="zh-CN" sz="3000" spc="-1" strike="noStrike">
                <a:solidFill>
                  <a:srgbClr val="1c1c1c"/>
                </a:solidFill>
                <a:latin typeface="宋体"/>
                <a:ea typeface="宋体"/>
              </a:rPr>
              <a:t>解：</a:t>
            </a:r>
            <a:br>
              <a:rPr sz="3000"/>
            </a:br>
            <a:r>
              <a:rPr b="0" lang="zh-CN" sz="30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宋体"/>
              </a:rPr>
              <a:t>3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宋体"/>
              </a:rPr>
              <a:t>3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宋体"/>
              </a:rPr>
              <a:t>9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宋体"/>
              </a:rPr>
              <a:t>3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248000" y="2205000"/>
            <a:ext cx="5048280" cy="3471840"/>
            <a:chOff x="4248000" y="2205000"/>
            <a:chExt cx="5048280" cy="3471840"/>
          </a:xfrm>
        </p:grpSpPr>
        <p:sp>
          <p:nvSpPr>
            <p:cNvPr id="133" name="AutoShape 6"/>
            <p:cNvSpPr/>
            <p:nvPr/>
          </p:nvSpPr>
          <p:spPr>
            <a:xfrm>
              <a:off x="4248000" y="2205000"/>
              <a:ext cx="4651200" cy="338472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"/>
            <p:cNvSpPr/>
            <p:nvPr/>
          </p:nvSpPr>
          <p:spPr>
            <a:xfrm>
              <a:off x="4481280" y="2592360"/>
              <a:ext cx="4815000" cy="30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6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＋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3</a:t>
              </a:r>
              <a:br>
                <a:rPr sz="3000"/>
              </a:b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9</a:t>
              </a:r>
              <a:br>
                <a:rPr sz="3000"/>
              </a:b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方程右边</a:t>
              </a:r>
              <a:br>
                <a:rPr sz="3000"/>
              </a:b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所以，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6</a:t>
              </a:r>
              <a:r>
                <a:rPr b="0" lang="zh-CN" sz="3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是方程的解。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458760"/>
            <p:cNvSpPr/>
            <p:nvPr/>
          </p:nvSpPr>
          <p:spPr>
            <a:xfrm>
              <a:off x="4828320" y="2382840"/>
              <a:ext cx="220644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方程左边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＋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3</a:t>
              </a:r>
              <a:br>
                <a:rPr sz="3000"/>
              </a:b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矩形 458761"/>
          <p:cNvSpPr/>
          <p:nvPr/>
        </p:nvSpPr>
        <p:spPr>
          <a:xfrm>
            <a:off x="2582640" y="4187880"/>
            <a:ext cx="97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宋体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900000" y="1339920"/>
            <a:ext cx="4392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解方程。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500"/>
            </a:b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3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26920" y="4940280"/>
            <a:ext cx="62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能运用等式的性质解这个方程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619280" y="5445000"/>
            <a:ext cx="705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为什么这次方程两边要加上同一个数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练习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1619280" y="5950080"/>
            <a:ext cx="612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为什么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211480" y="2781360"/>
            <a:ext cx="4881600" cy="2087640"/>
            <a:chOff x="2211480" y="2781360"/>
            <a:chExt cx="4881600" cy="2087640"/>
          </a:xfrm>
        </p:grpSpPr>
        <p:grpSp>
          <p:nvGrpSpPr>
            <p:cNvPr id="143" name=""/>
            <p:cNvGrpSpPr/>
            <p:nvPr/>
          </p:nvGrpSpPr>
          <p:grpSpPr>
            <a:xfrm>
              <a:off x="2211480" y="2781360"/>
              <a:ext cx="4881600" cy="2087640"/>
              <a:chOff x="2211480" y="2781360"/>
              <a:chExt cx="4881600" cy="2087640"/>
            </a:xfrm>
          </p:grpSpPr>
          <p:sp>
            <p:nvSpPr>
              <p:cNvPr id="144" name="Rectangle 6"/>
              <p:cNvSpPr/>
              <p:nvPr/>
            </p:nvSpPr>
            <p:spPr>
              <a:xfrm>
                <a:off x="2211480" y="2781360"/>
                <a:ext cx="4140360" cy="20876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"/>
              <p:cNvSpPr/>
              <p:nvPr/>
            </p:nvSpPr>
            <p:spPr>
              <a:xfrm>
                <a:off x="2320920" y="2924280"/>
                <a:ext cx="4772160" cy="146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解：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r>
                  <a:rPr b="0" i="1" lang="en-US" sz="3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zh-CN" sz="3000" spc="-1" strike="noStrike">
                    <a:solidFill>
                      <a:srgbClr val="000000"/>
                    </a:solidFill>
                    <a:latin typeface="Arial"/>
                  </a:rPr>
                  <a:t>－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63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＋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63</a:t>
                </a:r>
                <a:r>
                  <a:rPr b="0" lang="zh-CN" sz="30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6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＋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63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矩形 459786"/>
            <p:cNvSpPr/>
            <p:nvPr/>
          </p:nvSpPr>
          <p:spPr>
            <a:xfrm>
              <a:off x="3922560" y="3940200"/>
              <a:ext cx="1289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99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练习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900000" y="1225440"/>
            <a:ext cx="7417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是方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的解吗？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755640" y="5516640"/>
            <a:ext cx="62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请你判断一下，并说说理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-52560" y="2670120"/>
            <a:ext cx="9573840" cy="2736720"/>
            <a:chOff x="-52560" y="2670120"/>
            <a:chExt cx="9573840" cy="2736720"/>
          </a:xfrm>
        </p:grpSpPr>
        <p:grpSp>
          <p:nvGrpSpPr>
            <p:cNvPr id="151" name=""/>
            <p:cNvGrpSpPr/>
            <p:nvPr/>
          </p:nvGrpSpPr>
          <p:grpSpPr>
            <a:xfrm>
              <a:off x="-52560" y="2670120"/>
              <a:ext cx="4978080" cy="2736720"/>
              <a:chOff x="-52560" y="2670120"/>
              <a:chExt cx="4978080" cy="2736720"/>
            </a:xfrm>
          </p:grpSpPr>
          <p:sp>
            <p:nvSpPr>
              <p:cNvPr id="152" name="Rectangle 7"/>
              <p:cNvSpPr/>
              <p:nvPr/>
            </p:nvSpPr>
            <p:spPr>
              <a:xfrm>
                <a:off x="24840" y="2743200"/>
                <a:ext cx="4500360" cy="26636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2"/>
              <p:cNvSpPr/>
              <p:nvPr/>
            </p:nvSpPr>
            <p:spPr>
              <a:xfrm>
                <a:off x="-52560" y="2670120"/>
                <a:ext cx="4978080" cy="273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r>
                  <a:rPr b="0" lang="zh-CN" sz="3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方程左边</a:t>
                </a:r>
                <a:r>
                  <a:rPr b="0" lang="zh-CN" sz="30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5</a:t>
                </a:r>
                <a:r>
                  <a:rPr b="0" i="1" lang="en-US" sz="3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br>
                  <a:rPr sz="3000"/>
                </a:b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          </a:t>
                </a:r>
                <a:r>
                  <a:rPr b="0" lang="zh-CN" sz="30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5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×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</a:t>
                </a:r>
                <a:br>
                  <a:rPr sz="3000"/>
                </a:b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          </a:t>
                </a:r>
                <a:r>
                  <a:rPr b="0" lang="zh-CN" sz="30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0</a:t>
                </a:r>
                <a:br>
                  <a:rPr sz="3000"/>
                </a:b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          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≠</a:t>
                </a:r>
                <a:r>
                  <a:rPr b="0" lang="zh-CN" sz="3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方程右边</a:t>
                </a:r>
                <a:br>
                  <a:rPr sz="3000"/>
                </a:br>
                <a:r>
                  <a:rPr b="0" lang="zh-CN" sz="3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所以，</a:t>
                </a:r>
                <a:r>
                  <a:rPr b="0" i="1" lang="en-US" sz="3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zh-CN" sz="30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</a:t>
                </a:r>
                <a:r>
                  <a:rPr b="0" lang="zh-CN" sz="3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不是方程的解。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4542840" y="2670120"/>
              <a:ext cx="4978440" cy="2736720"/>
              <a:chOff x="4542840" y="2670120"/>
              <a:chExt cx="4978440" cy="2736720"/>
            </a:xfrm>
          </p:grpSpPr>
          <p:sp>
            <p:nvSpPr>
              <p:cNvPr id="155" name="Rectangle 10"/>
              <p:cNvSpPr/>
              <p:nvPr/>
            </p:nvSpPr>
            <p:spPr>
              <a:xfrm>
                <a:off x="4620240" y="2743200"/>
                <a:ext cx="4500720" cy="26636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2"/>
              <p:cNvSpPr/>
              <p:nvPr/>
            </p:nvSpPr>
            <p:spPr>
              <a:xfrm>
                <a:off x="4542840" y="2670120"/>
                <a:ext cx="4978440" cy="273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r>
                  <a:rPr b="0" lang="zh-CN" sz="3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方程左边</a:t>
                </a:r>
                <a:r>
                  <a:rPr b="0" lang="zh-CN" sz="30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5</a:t>
                </a:r>
                <a:r>
                  <a:rPr b="0" i="1" lang="en-US" sz="3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br>
                  <a:rPr sz="3000"/>
                </a:b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          </a:t>
                </a:r>
                <a:r>
                  <a:rPr b="0" lang="zh-CN" sz="30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5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×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br>
                  <a:rPr sz="3000"/>
                </a:b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          </a:t>
                </a:r>
                <a:r>
                  <a:rPr b="0" lang="zh-CN" sz="30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5</a:t>
                </a:r>
                <a:br>
                  <a:rPr sz="3000"/>
                </a:b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          </a:t>
                </a:r>
                <a:r>
                  <a:rPr b="0" lang="zh-CN" sz="30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zh-CN" sz="3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方程右边</a:t>
                </a:r>
                <a:br>
                  <a:rPr sz="3000"/>
                </a:br>
                <a:r>
                  <a:rPr b="0" lang="zh-CN" sz="3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所以，</a:t>
                </a:r>
                <a:r>
                  <a:rPr b="0" i="1" lang="en-US" sz="3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zh-CN" sz="30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r>
                  <a:rPr b="0" lang="zh-CN" sz="3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是方程的解。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练习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900000" y="1225440"/>
            <a:ext cx="640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小诊所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539640" y="5229360"/>
            <a:ext cx="799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说说解方程的过程对吗？如有问题，请你把它改正过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1042920" y="2637000"/>
            <a:ext cx="41054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br>
              <a:rPr sz="3000"/>
            </a:b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解： 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5219640" y="2589120"/>
            <a:ext cx="41054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改正：</a:t>
            </a:r>
            <a:br>
              <a:rPr sz="3000"/>
            </a:b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解：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6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布置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1104840" y="2205000"/>
            <a:ext cx="803916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业：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十五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（第一、二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道）、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（第一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道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导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1476360" y="2349360"/>
            <a:ext cx="583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0" i="1" lang="en-US" sz="3000" spc="-1" strike="noStrike">
                <a:solidFill>
                  <a:srgbClr val="1c1c1c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9.8     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5321160" y="2263680"/>
            <a:ext cx="6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1476360" y="3787920"/>
            <a:ext cx="5759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8</a:t>
            </a:r>
            <a:r>
              <a:rPr b="0" i="1" lang="en-US" sz="3000" spc="-1" strike="noStrike">
                <a:solidFill>
                  <a:srgbClr val="1c1c1c"/>
                </a:solidFill>
                <a:latin typeface="Times New Roman"/>
                <a:ea typeface="宋体"/>
              </a:rPr>
              <a:t>y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14          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（    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1476360" y="3068640"/>
            <a:ext cx="590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16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0" i="1" lang="en-US" sz="3000" spc="-1" strike="noStrike">
                <a:solidFill>
                  <a:srgbClr val="1c1c1c"/>
                </a:solidFill>
                <a:latin typeface="Times New Roman"/>
                <a:ea typeface="宋体"/>
              </a:rPr>
              <a:t>y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＜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30            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（            ）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1403280" y="5516640"/>
            <a:ext cx="62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下面哪个式子是方程？并说说理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1260360" y="1484280"/>
            <a:ext cx="58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下面哪个式子是方程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5321160" y="3056040"/>
            <a:ext cx="6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1476360" y="4581360"/>
            <a:ext cx="619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÷7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      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5321160" y="3776760"/>
            <a:ext cx="6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5321160" y="4568760"/>
            <a:ext cx="6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50573"/>
          <p:cNvSpPr/>
          <p:nvPr/>
        </p:nvSpPr>
        <p:spPr>
          <a:xfrm>
            <a:off x="520920" y="47196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450574"/>
          <p:cNvSpPr/>
          <p:nvPr/>
        </p:nvSpPr>
        <p:spPr>
          <a:xfrm>
            <a:off x="736920" y="49356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450575"/>
          <p:cNvSpPr/>
          <p:nvPr/>
        </p:nvSpPr>
        <p:spPr>
          <a:xfrm>
            <a:off x="952560" y="51516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450576"/>
          <p:cNvSpPr/>
          <p:nvPr/>
        </p:nvSpPr>
        <p:spPr>
          <a:xfrm>
            <a:off x="1168560" y="53672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引入情境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5084640"/>
            <a:ext cx="7267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能根据图意列出方程吗？你是怎么想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理解图意，列出方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203640" y="4365720"/>
            <a:ext cx="25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宋体"/>
              </a:rPr>
              <a:t>3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宋体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260360" y="5589720"/>
            <a:ext cx="8066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代表几呢？请你运用所学的知识试着确定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值，并写出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451590" descr="100"/>
          <p:cNvPicPr/>
          <p:nvPr/>
        </p:nvPicPr>
        <p:blipFill>
          <a:blip r:embed="rId2"/>
          <a:stretch/>
        </p:blipFill>
        <p:spPr>
          <a:xfrm>
            <a:off x="878040" y="2276640"/>
            <a:ext cx="6646680" cy="1798560"/>
          </a:xfrm>
          <a:prstGeom prst="rect">
            <a:avLst/>
          </a:prstGeom>
          <a:ln w="0">
            <a:noFill/>
          </a:ln>
        </p:spPr>
      </p:pic>
      <p:sp>
        <p:nvSpPr>
          <p:cNvPr id="64" name="矩形 451592"/>
          <p:cNvSpPr/>
          <p:nvPr/>
        </p:nvSpPr>
        <p:spPr>
          <a:xfrm>
            <a:off x="520920" y="47196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451593"/>
          <p:cNvSpPr/>
          <p:nvPr/>
        </p:nvSpPr>
        <p:spPr>
          <a:xfrm>
            <a:off x="736920" y="49356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引入情境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95280" y="1413000"/>
            <a:ext cx="8137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解决问题，分享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403280" y="2133720"/>
            <a:ext cx="6409800" cy="4031280"/>
            <a:chOff x="1403280" y="2133720"/>
            <a:chExt cx="6409800" cy="4031280"/>
          </a:xfrm>
        </p:grpSpPr>
        <p:grpSp>
          <p:nvGrpSpPr>
            <p:cNvPr id="69" name=""/>
            <p:cNvGrpSpPr/>
            <p:nvPr/>
          </p:nvGrpSpPr>
          <p:grpSpPr>
            <a:xfrm>
              <a:off x="1403280" y="2133720"/>
              <a:ext cx="2899080" cy="2015280"/>
              <a:chOff x="1403280" y="2133720"/>
              <a:chExt cx="2899080" cy="2015280"/>
            </a:xfrm>
          </p:grpSpPr>
          <p:sp>
            <p:nvSpPr>
              <p:cNvPr id="70" name="Rectangle 6"/>
              <p:cNvSpPr/>
              <p:nvPr/>
            </p:nvSpPr>
            <p:spPr>
              <a:xfrm>
                <a:off x="1403280" y="2193840"/>
                <a:ext cx="2843280" cy="19551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1573560" y="2133720"/>
                <a:ext cx="2728800" cy="1709640"/>
                <a:chOff x="1573560" y="2133720"/>
                <a:chExt cx="2728800" cy="1709640"/>
              </a:xfrm>
            </p:grpSpPr>
            <p:sp>
              <p:nvSpPr>
                <p:cNvPr id="72" name="Rectangle 2"/>
                <p:cNvSpPr/>
                <p:nvPr/>
              </p:nvSpPr>
              <p:spPr>
                <a:xfrm>
                  <a:off x="1573560" y="2133720"/>
                  <a:ext cx="18201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ff"/>
                      </a:solidFill>
                      <a:latin typeface="宋体"/>
                      <a:ea typeface="宋体"/>
                    </a:rPr>
                    <a:t>预设</a:t>
                  </a:r>
                  <a:r>
                    <a:rPr b="0" lang="en-US" sz="1800" spc="-1" strike="noStrike">
                      <a:solidFill>
                        <a:srgbClr val="0000ff"/>
                      </a:solidFill>
                      <a:latin typeface="Arial"/>
                      <a:ea typeface="宋体"/>
                    </a:rPr>
                    <a:t>1</a:t>
                  </a:r>
                  <a:r>
                    <a:rPr b="0" lang="zh-CN" sz="1800" spc="-1" strike="noStrike">
                      <a:solidFill>
                        <a:srgbClr val="0000ff"/>
                      </a:solidFill>
                      <a:latin typeface="宋体"/>
                      <a:ea typeface="宋体"/>
                    </a:rPr>
                    <a:t>：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2"/>
                <p:cNvSpPr/>
                <p:nvPr/>
              </p:nvSpPr>
              <p:spPr>
                <a:xfrm>
                  <a:off x="1629720" y="2462040"/>
                  <a:ext cx="2672640" cy="138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000000"/>
                      </a:solidFill>
                      <a:latin typeface="Arial"/>
                    </a:rPr>
                    <a:t>           </a:t>
                  </a:r>
                  <a:br>
                    <a:rPr sz="2500"/>
                  </a:br>
                  <a:r>
                    <a:rPr b="0" lang="en-US" sz="2500" spc="-1" strike="noStrike">
                      <a:solidFill>
                        <a:srgbClr val="000000"/>
                      </a:solidFill>
                      <a:latin typeface="Arial"/>
                    </a:rPr>
                    <a:t>      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x</a:t>
                  </a:r>
                  <a:r>
                    <a:rPr b="0" lang="en-US" sz="1800" spc="-1" strike="noStrike">
                      <a:solidFill>
                        <a:srgbClr val="1c1c1c"/>
                      </a:solidFill>
                      <a:latin typeface="Arial"/>
                    </a:rPr>
                    <a:t>＋</a:t>
                  </a:r>
                  <a:r>
                    <a:rPr b="0" lang="en-US" sz="1800" spc="-1" strike="noStrike">
                      <a:solidFill>
                        <a:srgbClr val="1c1c1c"/>
                      </a:solidFill>
                      <a:latin typeface="Arial"/>
                      <a:ea typeface="宋体"/>
                    </a:rPr>
                    <a:t>3</a:t>
                  </a:r>
                  <a:r>
                    <a:rPr b="0" lang="zh-CN" sz="1800" spc="-1" strike="noStrike">
                      <a:solidFill>
                        <a:srgbClr val="1c1c1c"/>
                      </a:solidFill>
                      <a:latin typeface="Arial"/>
                    </a:rPr>
                    <a:t>＝</a:t>
                  </a:r>
                  <a:r>
                    <a:rPr b="0" lang="en-US" sz="1800" spc="-1" strike="noStrike">
                      <a:solidFill>
                        <a:srgbClr val="1c1c1c"/>
                      </a:solidFill>
                      <a:latin typeface="Arial"/>
                      <a:ea typeface="宋体"/>
                    </a:rPr>
                    <a:t>9</a:t>
                  </a:r>
                  <a:br>
                    <a:rPr sz="1800"/>
                  </a:br>
                  <a:r>
                    <a:rPr b="0" lang="zh-CN" sz="1800" spc="-1" strike="noStrike">
                      <a:solidFill>
                        <a:srgbClr val="1c1c1c"/>
                      </a:solidFill>
                      <a:latin typeface="宋体"/>
                      <a:ea typeface="宋体"/>
                    </a:rPr>
                    <a:t>解： </a:t>
                  </a:r>
                  <a:br>
                    <a:rPr sz="1800"/>
                  </a:br>
                  <a:r>
                    <a:rPr b="0" lang="zh-CN" sz="1800" spc="-1" strike="noStrike">
                      <a:solidFill>
                        <a:srgbClr val="1c1c1c"/>
                      </a:solidFill>
                      <a:latin typeface="宋体"/>
                      <a:ea typeface="宋体"/>
                    </a:rPr>
                    <a:t> 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x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＋</a:t>
                  </a:r>
                  <a:r>
                    <a:rPr b="0" lang="en-US" sz="1800" spc="-1" strike="noStrike">
                      <a:solidFill>
                        <a:srgbClr val="1c1c1c"/>
                      </a:solidFill>
                      <a:latin typeface="Arial"/>
                      <a:ea typeface="宋体"/>
                    </a:rPr>
                    <a:t>3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－</a:t>
                  </a:r>
                  <a:r>
                    <a:rPr b="0" lang="en-US" sz="1800" spc="-1" strike="noStrike">
                      <a:solidFill>
                        <a:srgbClr val="1c1c1c"/>
                      </a:solidFill>
                      <a:latin typeface="Arial"/>
                      <a:ea typeface="宋体"/>
                    </a:rPr>
                    <a:t>3</a:t>
                  </a:r>
                  <a:r>
                    <a:rPr b="0" lang="zh-CN" sz="1800" spc="-1" strike="noStrike">
                      <a:solidFill>
                        <a:srgbClr val="1c1c1c"/>
                      </a:solidFill>
                      <a:latin typeface="Arial"/>
                    </a:rPr>
                    <a:t>＝</a:t>
                  </a:r>
                  <a:r>
                    <a:rPr b="0" lang="en-US" sz="1800" spc="-1" strike="noStrike">
                      <a:solidFill>
                        <a:srgbClr val="1c1c1c"/>
                      </a:solidFill>
                      <a:latin typeface="Arial"/>
                      <a:ea typeface="宋体"/>
                    </a:rPr>
                    <a:t>9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－</a:t>
                  </a:r>
                  <a:r>
                    <a:rPr b="0" lang="en-US" sz="1800" spc="-1" strike="noStrike">
                      <a:solidFill>
                        <a:srgbClr val="1c1c1c"/>
                      </a:solidFill>
                      <a:latin typeface="Arial"/>
                      <a:ea typeface="宋体"/>
                    </a:rPr>
                    <a:t>3</a:t>
                  </a:r>
                  <a:br>
                    <a:rPr sz="1800"/>
                  </a:br>
                  <a:r>
                    <a:rPr b="0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       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x</a:t>
                  </a:r>
                  <a:r>
                    <a:rPr b="0" lang="zh-CN" sz="1800" spc="-1" strike="noStrike">
                      <a:solidFill>
                        <a:srgbClr val="1c1c1c"/>
                      </a:solidFill>
                      <a:latin typeface="Arial"/>
                    </a:rPr>
                    <a:t>＝</a:t>
                  </a:r>
                  <a:r>
                    <a:rPr b="0" lang="en-US" sz="1800" spc="-1" strike="noStrike">
                      <a:solidFill>
                        <a:srgbClr val="1c1c1c"/>
                      </a:solidFill>
                      <a:latin typeface="Arial"/>
                      <a:ea typeface="宋体"/>
                    </a:rPr>
                    <a:t>6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" name=""/>
            <p:cNvGrpSpPr/>
            <p:nvPr/>
          </p:nvGrpSpPr>
          <p:grpSpPr>
            <a:xfrm>
              <a:off x="4838040" y="2133720"/>
              <a:ext cx="2975040" cy="2015640"/>
              <a:chOff x="4838040" y="2133720"/>
              <a:chExt cx="2975040" cy="2015640"/>
            </a:xfrm>
          </p:grpSpPr>
          <p:sp>
            <p:nvSpPr>
              <p:cNvPr id="75" name="Rectangle 11"/>
              <p:cNvSpPr/>
              <p:nvPr/>
            </p:nvSpPr>
            <p:spPr>
              <a:xfrm>
                <a:off x="4838040" y="2195640"/>
                <a:ext cx="2864880" cy="19537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2"/>
              <p:cNvSpPr/>
              <p:nvPr/>
            </p:nvSpPr>
            <p:spPr>
              <a:xfrm>
                <a:off x="4947120" y="2133720"/>
                <a:ext cx="1764000" cy="48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ff"/>
                    </a:solidFill>
                    <a:latin typeface="宋体"/>
                    <a:ea typeface="宋体"/>
                  </a:rPr>
                  <a:t>预设</a:t>
                </a:r>
                <a:r>
                  <a:rPr b="0" lang="en-US" sz="18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2</a:t>
                </a:r>
                <a:r>
                  <a:rPr b="0" lang="zh-CN" sz="1800" spc="-1" strike="noStrike">
                    <a:solidFill>
                      <a:srgbClr val="0000ff"/>
                    </a:solidFill>
                    <a:latin typeface="宋体"/>
                    <a:ea typeface="宋体"/>
                  </a:rPr>
                  <a:t>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2"/>
              <p:cNvSpPr/>
              <p:nvPr/>
            </p:nvSpPr>
            <p:spPr>
              <a:xfrm>
                <a:off x="5222880" y="2644920"/>
                <a:ext cx="2590200" cy="13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</a:rPr>
                  <a:t>＋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3</a:t>
                </a:r>
                <a:r>
                  <a:rPr b="0" lang="zh-CN" sz="1800" spc="-1" strike="noStrike">
                    <a:solidFill>
                      <a:srgbClr val="1c1c1c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9</a:t>
                </a:r>
                <a:br>
                  <a:rPr sz="1800"/>
                </a:br>
                <a:r>
                  <a:rPr b="0" lang="zh-CN" sz="18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解：      </a:t>
                </a:r>
                <a:br>
                  <a:rPr sz="1800"/>
                </a:br>
                <a:r>
                  <a:rPr b="0" lang="zh-CN" sz="18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  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zh-CN" sz="1800" spc="-1" strike="noStrike">
                    <a:solidFill>
                      <a:srgbClr val="1c1c1c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9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－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3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  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zh-CN" sz="1800" spc="-1" strike="noStrike">
                    <a:solidFill>
                      <a:srgbClr val="1c1c1c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1404720" y="4226400"/>
              <a:ext cx="2822400" cy="1937160"/>
              <a:chOff x="1404720" y="4226400"/>
              <a:chExt cx="2822400" cy="1937160"/>
            </a:xfrm>
          </p:grpSpPr>
          <p:sp>
            <p:nvSpPr>
              <p:cNvPr id="79" name="Rectangle 15"/>
              <p:cNvSpPr/>
              <p:nvPr/>
            </p:nvSpPr>
            <p:spPr>
              <a:xfrm>
                <a:off x="1404720" y="4284360"/>
                <a:ext cx="2822400" cy="18792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2"/>
              <p:cNvSpPr/>
              <p:nvPr/>
            </p:nvSpPr>
            <p:spPr>
              <a:xfrm>
                <a:off x="1574280" y="4226400"/>
                <a:ext cx="1806480" cy="4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ff"/>
                    </a:solidFill>
                    <a:latin typeface="宋体"/>
                    <a:ea typeface="宋体"/>
                  </a:rPr>
                  <a:t>预设</a:t>
                </a:r>
                <a:r>
                  <a:rPr b="0" lang="en-US" sz="18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3</a:t>
                </a:r>
                <a:r>
                  <a:rPr b="0" lang="zh-CN" sz="1800" spc="-1" strike="noStrike">
                    <a:solidFill>
                      <a:srgbClr val="0000ff"/>
                    </a:solidFill>
                    <a:latin typeface="宋体"/>
                    <a:ea typeface="宋体"/>
                  </a:rPr>
                  <a:t>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2"/>
              <p:cNvSpPr/>
              <p:nvPr/>
            </p:nvSpPr>
            <p:spPr>
              <a:xfrm>
                <a:off x="1404720" y="4579920"/>
                <a:ext cx="2652480" cy="123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500"/>
                </a:b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</a:rPr>
                  <a:t>＋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3</a:t>
                </a:r>
                <a:r>
                  <a:rPr b="0" lang="zh-CN" sz="1800" spc="-1" strike="noStrike">
                    <a:solidFill>
                      <a:srgbClr val="1c1c1c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9</a:t>
                </a:r>
                <a:r>
                  <a:rPr b="0" lang="zh-CN" sz="18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 </a:t>
                </a:r>
                <a:br>
                  <a:rPr sz="1800"/>
                </a:br>
                <a:r>
                  <a:rPr b="0" lang="zh-CN" sz="18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＋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3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－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3</a:t>
                </a:r>
                <a:r>
                  <a:rPr b="0" lang="zh-CN" sz="1800" spc="-1" strike="noStrike">
                    <a:solidFill>
                      <a:srgbClr val="1c1c1c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9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－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3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zh-CN" sz="1800" spc="-1" strike="noStrike">
                    <a:solidFill>
                      <a:srgbClr val="1c1c1c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4838040" y="4226400"/>
              <a:ext cx="2975040" cy="1938600"/>
              <a:chOff x="4838040" y="4226400"/>
              <a:chExt cx="2975040" cy="1938600"/>
            </a:xfrm>
          </p:grpSpPr>
          <p:sp>
            <p:nvSpPr>
              <p:cNvPr id="83" name="Rectangle 19"/>
              <p:cNvSpPr/>
              <p:nvPr/>
            </p:nvSpPr>
            <p:spPr>
              <a:xfrm>
                <a:off x="4838040" y="4285800"/>
                <a:ext cx="2864880" cy="187920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2"/>
              <p:cNvSpPr/>
              <p:nvPr/>
            </p:nvSpPr>
            <p:spPr>
              <a:xfrm>
                <a:off x="4947120" y="4226400"/>
                <a:ext cx="1764000" cy="4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ff"/>
                    </a:solidFill>
                    <a:latin typeface="宋体"/>
                    <a:ea typeface="宋体"/>
                  </a:rPr>
                  <a:t>预设</a:t>
                </a:r>
                <a:r>
                  <a:rPr b="0" lang="en-US" sz="18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4</a:t>
                </a:r>
                <a:r>
                  <a:rPr b="0" lang="zh-CN" sz="1800" spc="-1" strike="noStrike">
                    <a:solidFill>
                      <a:srgbClr val="0000ff"/>
                    </a:solidFill>
                    <a:latin typeface="宋体"/>
                    <a:ea typeface="宋体"/>
                  </a:rPr>
                  <a:t>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2"/>
              <p:cNvSpPr/>
              <p:nvPr/>
            </p:nvSpPr>
            <p:spPr>
              <a:xfrm>
                <a:off x="5222880" y="4718160"/>
                <a:ext cx="2590200" cy="13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</a:rPr>
                  <a:t>＋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3</a:t>
                </a:r>
                <a:r>
                  <a:rPr b="0" lang="zh-CN" sz="1800" spc="-1" strike="noStrike">
                    <a:solidFill>
                      <a:srgbClr val="1c1c1c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9</a:t>
                </a:r>
                <a:br>
                  <a:rPr sz="1800"/>
                </a:br>
                <a:r>
                  <a:rPr b="0" lang="zh-CN" sz="18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解：</a:t>
                </a:r>
                <a:r>
                  <a:rPr b="0" lang="zh-CN" sz="18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      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   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zh-CN" sz="1800" spc="-1" strike="noStrike">
                    <a:solidFill>
                      <a:srgbClr val="1c1c1c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引入情境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395280" y="1413000"/>
            <a:ext cx="8137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解决问题，分享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538200" y="5084640"/>
            <a:ext cx="532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能借助天平说说他们的想法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044720" y="2060640"/>
            <a:ext cx="3886920" cy="2952360"/>
            <a:chOff x="1044720" y="2060640"/>
            <a:chExt cx="3886920" cy="2952360"/>
          </a:xfrm>
        </p:grpSpPr>
        <p:sp>
          <p:nvSpPr>
            <p:cNvPr id="90" name="Rectangle 6"/>
            <p:cNvSpPr/>
            <p:nvPr/>
          </p:nvSpPr>
          <p:spPr>
            <a:xfrm>
              <a:off x="1044720" y="2149200"/>
              <a:ext cx="3811680" cy="2863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1273320" y="2060640"/>
              <a:ext cx="3658320" cy="2504160"/>
              <a:chOff x="1273320" y="2060640"/>
              <a:chExt cx="3658320" cy="2504160"/>
            </a:xfrm>
          </p:grpSpPr>
          <p:sp>
            <p:nvSpPr>
              <p:cNvPr id="92" name="Rectangle 2"/>
              <p:cNvSpPr/>
              <p:nvPr/>
            </p:nvSpPr>
            <p:spPr>
              <a:xfrm>
                <a:off x="1273320" y="2060640"/>
                <a:ext cx="2440080" cy="71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预设</a:t>
                </a:r>
                <a:r>
                  <a:rPr b="0" lang="en-US" sz="30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1</a:t>
                </a:r>
                <a:r>
                  <a:rPr b="0" lang="zh-CN" sz="3000" spc="-1" strike="noStrike">
                    <a:solidFill>
                      <a:srgbClr val="0000ff"/>
                    </a:solidFill>
                    <a:latin typeface="宋体"/>
                    <a:ea typeface="宋体"/>
                  </a:rPr>
                  <a:t>：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2"/>
              <p:cNvSpPr/>
              <p:nvPr/>
            </p:nvSpPr>
            <p:spPr>
              <a:xfrm>
                <a:off x="1348560" y="2541600"/>
                <a:ext cx="3583080" cy="202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           </a:t>
                </a:r>
                <a:br>
                  <a:rPr sz="2500"/>
                </a:b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         </a:t>
                </a:r>
                <a:r>
                  <a:rPr b="0" i="1" lang="en-US" sz="3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en-US" sz="3000" spc="-1" strike="noStrike">
                    <a:solidFill>
                      <a:srgbClr val="1c1c1c"/>
                    </a:solidFill>
                    <a:latin typeface="Arial"/>
                  </a:rPr>
                  <a:t>＋</a:t>
                </a:r>
                <a:r>
                  <a:rPr b="0" lang="en-US" sz="3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3</a:t>
                </a:r>
                <a:r>
                  <a:rPr b="0" lang="zh-CN" sz="3000" spc="-1" strike="noStrike">
                    <a:solidFill>
                      <a:srgbClr val="1c1c1c"/>
                    </a:solidFill>
                    <a:latin typeface="Arial"/>
                  </a:rPr>
                  <a:t>＝</a:t>
                </a:r>
                <a:r>
                  <a:rPr b="0" lang="en-US" sz="3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9</a:t>
                </a:r>
                <a:br>
                  <a:rPr sz="3000"/>
                </a:br>
                <a:r>
                  <a:rPr b="0" lang="zh-CN" sz="3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解： </a:t>
                </a:r>
                <a:br>
                  <a:rPr sz="3000"/>
                </a:br>
                <a:r>
                  <a:rPr b="0" lang="zh-CN" sz="3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  </a:t>
                </a:r>
                <a:r>
                  <a:rPr b="0" i="1" lang="en-US" sz="3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＋</a:t>
                </a:r>
                <a:r>
                  <a:rPr b="0" lang="en-US" sz="3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3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－</a:t>
                </a:r>
                <a:r>
                  <a:rPr b="0" lang="en-US" sz="3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3</a:t>
                </a:r>
                <a:r>
                  <a:rPr b="0" lang="zh-CN" sz="30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3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9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－</a:t>
                </a:r>
                <a:r>
                  <a:rPr b="0" lang="en-US" sz="3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3</a:t>
                </a:r>
                <a:br>
                  <a:rPr sz="3000"/>
                </a:b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" name="Rectangle 2"/>
          <p:cNvSpPr/>
          <p:nvPr/>
        </p:nvSpPr>
        <p:spPr>
          <a:xfrm>
            <a:off x="1330200" y="5661000"/>
            <a:ext cx="734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一种方法用到学过的什么知识？为什么要把等式的两边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同时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？为什么不同时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453642" descr="101"/>
          <p:cNvPicPr/>
          <p:nvPr/>
        </p:nvPicPr>
        <p:blipFill>
          <a:blip r:embed="rId3"/>
          <a:stretch/>
        </p:blipFill>
        <p:spPr>
          <a:xfrm>
            <a:off x="6012000" y="1484280"/>
            <a:ext cx="2087280" cy="3595680"/>
          </a:xfrm>
          <a:prstGeom prst="rect">
            <a:avLst/>
          </a:prstGeom>
          <a:ln w="0">
            <a:noFill/>
          </a:ln>
        </p:spPr>
      </p:pic>
      <p:sp>
        <p:nvSpPr>
          <p:cNvPr id="96" name="矩形 453643"/>
          <p:cNvSpPr/>
          <p:nvPr/>
        </p:nvSpPr>
        <p:spPr>
          <a:xfrm>
            <a:off x="2741400" y="4091040"/>
            <a:ext cx="97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宋体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454658" descr=""/>
          <p:cNvPicPr/>
          <p:nvPr/>
        </p:nvPicPr>
        <p:blipFill>
          <a:blip r:embed="rId3"/>
          <a:stretch/>
        </p:blipFill>
        <p:spPr>
          <a:xfrm>
            <a:off x="366840" y="276120"/>
            <a:ext cx="839124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引入情境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395280" y="1413000"/>
            <a:ext cx="8137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解决问题，分享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042920" y="5373720"/>
            <a:ext cx="842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你理解这种方法吗？请说说理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484360" y="2419200"/>
            <a:ext cx="3887640" cy="2378160"/>
            <a:chOff x="2484360" y="2419200"/>
            <a:chExt cx="3887640" cy="2378160"/>
          </a:xfrm>
        </p:grpSpPr>
        <p:sp>
          <p:nvSpPr>
            <p:cNvPr id="103" name="Rectangle 6"/>
            <p:cNvSpPr/>
            <p:nvPr/>
          </p:nvSpPr>
          <p:spPr>
            <a:xfrm>
              <a:off x="2484360" y="2492280"/>
              <a:ext cx="3743280" cy="2305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"/>
            <p:cNvSpPr/>
            <p:nvPr/>
          </p:nvSpPr>
          <p:spPr>
            <a:xfrm>
              <a:off x="2627280" y="2419200"/>
              <a:ext cx="2305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预设</a:t>
              </a:r>
              <a:r>
                <a:rPr b="0" lang="en-US" sz="3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2</a:t>
              </a:r>
              <a:r>
                <a:rPr b="0" lang="zh-CN" sz="30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：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"/>
            <p:cNvSpPr/>
            <p:nvPr/>
          </p:nvSpPr>
          <p:spPr>
            <a:xfrm>
              <a:off x="2987640" y="3022560"/>
              <a:ext cx="3384360" cy="16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＋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3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9</a:t>
              </a:r>
              <a:br>
                <a:rPr sz="3000"/>
              </a:br>
              <a:r>
                <a:rPr b="0" lang="zh-CN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解：      </a:t>
              </a:r>
              <a:br>
                <a:rPr sz="3000"/>
              </a:br>
              <a:r>
                <a:rPr b="0" lang="zh-CN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        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9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3</a:t>
              </a:r>
              <a:br>
                <a:rPr sz="3000"/>
              </a:b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6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引入情境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395280" y="1413000"/>
            <a:ext cx="8137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解决问题，分享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539640" y="5300640"/>
            <a:ext cx="842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几位同学在解决的过程中书写有什么问题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1332000" y="5805360"/>
            <a:ext cx="81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你按要求把书写格式改一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716360" y="2346480"/>
            <a:ext cx="3887640" cy="2737800"/>
            <a:chOff x="4716360" y="2346480"/>
            <a:chExt cx="3887640" cy="2737800"/>
          </a:xfrm>
        </p:grpSpPr>
        <p:sp>
          <p:nvSpPr>
            <p:cNvPr id="111" name="Rectangle 7"/>
            <p:cNvSpPr/>
            <p:nvPr/>
          </p:nvSpPr>
          <p:spPr>
            <a:xfrm>
              <a:off x="4716360" y="2430360"/>
              <a:ext cx="3743280" cy="2653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"/>
            <p:cNvSpPr/>
            <p:nvPr/>
          </p:nvSpPr>
          <p:spPr>
            <a:xfrm>
              <a:off x="4859280" y="2346480"/>
              <a:ext cx="230508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预设</a:t>
              </a:r>
              <a:r>
                <a:rPr b="0" lang="en-US" sz="3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4</a:t>
              </a:r>
              <a:r>
                <a:rPr b="0" lang="zh-CN" sz="30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：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"/>
            <p:cNvSpPr/>
            <p:nvPr/>
          </p:nvSpPr>
          <p:spPr>
            <a:xfrm>
              <a:off x="5219640" y="3040920"/>
              <a:ext cx="3384360" cy="18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＋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3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9</a:t>
              </a:r>
              <a:br>
                <a:rPr sz="3000"/>
              </a:br>
              <a:r>
                <a:rPr b="0" lang="zh-CN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解：</a:t>
              </a:r>
              <a:r>
                <a:rPr b="0" lang="zh-CN" sz="30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      </a:t>
              </a:r>
              <a:br>
                <a:rPr sz="3000"/>
              </a:br>
              <a:r>
                <a:rPr b="0" lang="en-US" sz="3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6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10"/>
          <p:cNvSpPr/>
          <p:nvPr/>
        </p:nvSpPr>
        <p:spPr>
          <a:xfrm>
            <a:off x="539640" y="2430360"/>
            <a:ext cx="3600720" cy="2654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755640" y="2347920"/>
            <a:ext cx="230508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宋体"/>
                <a:ea typeface="宋体"/>
              </a:rPr>
              <a:t>预设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  <a:ea typeface="宋体"/>
              </a:rPr>
              <a:t>3</a:t>
            </a:r>
            <a:r>
              <a:rPr b="0" lang="zh-CN" sz="3000" spc="-1" strike="noStrike">
                <a:solidFill>
                  <a:srgbClr val="0000ff"/>
                </a:solidFill>
                <a:latin typeface="宋体"/>
                <a:ea typeface="宋体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539640" y="2846520"/>
            <a:ext cx="33847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宋体"/>
              </a:rPr>
              <a:t>3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宋体"/>
              </a:rPr>
              <a:t>9</a:t>
            </a:r>
            <a:r>
              <a:rPr b="0" lang="zh-CN" sz="3000" spc="-1" strike="noStrike">
                <a:solidFill>
                  <a:srgbClr val="1c1c1c"/>
                </a:solidFill>
                <a:latin typeface="宋体"/>
                <a:ea typeface="宋体"/>
              </a:rPr>
              <a:t> </a:t>
            </a:r>
            <a:br>
              <a:rPr sz="3000"/>
            </a:br>
            <a:r>
              <a:rPr b="0" lang="zh-CN" sz="3000" spc="-1" strike="noStrike">
                <a:solidFill>
                  <a:srgbClr val="1c1c1c"/>
                </a:solidFill>
                <a:latin typeface="宋体"/>
                <a:ea typeface="宋体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宋体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宋体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宋体"/>
              </a:rPr>
              <a:t>9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宋体"/>
              </a:rPr>
              <a:t>3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宋体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2050920" y="3094200"/>
            <a:ext cx="0" cy="1823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684360" y="3573360"/>
            <a:ext cx="79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宋体"/>
                <a:ea typeface="宋体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6443640" y="3716280"/>
            <a:ext cx="7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宋体"/>
                <a:ea typeface="宋体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引入情境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三）理解概念，反思验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519200" y="2709720"/>
            <a:ext cx="5429160" cy="2448000"/>
            <a:chOff x="1519200" y="2709720"/>
            <a:chExt cx="5429160" cy="2448000"/>
          </a:xfrm>
        </p:grpSpPr>
        <p:sp>
          <p:nvSpPr>
            <p:cNvPr id="123" name="AutoShape 5"/>
            <p:cNvSpPr/>
            <p:nvPr/>
          </p:nvSpPr>
          <p:spPr>
            <a:xfrm>
              <a:off x="1519200" y="3141360"/>
              <a:ext cx="3672000" cy="20163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6"/>
            <p:cNvSpPr/>
            <p:nvPr/>
          </p:nvSpPr>
          <p:spPr>
            <a:xfrm>
              <a:off x="3390840" y="4510080"/>
              <a:ext cx="3024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6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"/>
            <p:cNvSpPr/>
            <p:nvPr/>
          </p:nvSpPr>
          <p:spPr>
            <a:xfrm>
              <a:off x="1620720" y="2709720"/>
              <a:ext cx="53276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＋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3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9</a:t>
              </a:r>
              <a:br>
                <a:rPr sz="3000"/>
              </a:br>
              <a:br>
                <a:rPr sz="3000"/>
              </a:br>
              <a:br>
                <a:rPr sz="3000"/>
              </a:br>
              <a:r>
                <a:rPr b="0" lang="zh-CN" sz="30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解：</a:t>
              </a:r>
              <a:br>
                <a:rPr sz="3000"/>
              </a:br>
              <a:r>
                <a:rPr b="0" lang="zh-CN" sz="30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  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＋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3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－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3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9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－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3</a:t>
              </a:r>
              <a:br>
                <a:rPr sz="3000"/>
              </a:b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AutoShape 27"/>
          <p:cNvSpPr/>
          <p:nvPr/>
        </p:nvSpPr>
        <p:spPr>
          <a:xfrm>
            <a:off x="5364000" y="3068640"/>
            <a:ext cx="3024360" cy="936720"/>
          </a:xfrm>
          <a:prstGeom prst="wedgeRoundRectCallout">
            <a:avLst>
              <a:gd name="adj1" fmla="val -61916"/>
              <a:gd name="adj2" fmla="val 5915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求方程的解的过程叫做解方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7"/>
          <p:cNvSpPr/>
          <p:nvPr/>
        </p:nvSpPr>
        <p:spPr>
          <a:xfrm>
            <a:off x="4643280" y="5084640"/>
            <a:ext cx="3529080" cy="936720"/>
          </a:xfrm>
          <a:prstGeom prst="wedgeRoundRectCallout">
            <a:avLst>
              <a:gd name="adj1" fmla="val -60750"/>
              <a:gd name="adj2" fmla="val -5372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使方程左右两边相等的未知数的值，叫做方程的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3T03:14:2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